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837-B1C4-4E3A-BA2D-4C1505BD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4EE-932F-48DC-B107-3B627D97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F3A-E05C-489A-B67E-9372DEB1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02A-B81F-4CD6-95BD-2464BAD9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892-9D46-4E72-B169-124E0A0D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115-906B-4F4E-908F-267473CB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A35-500A-4459-AE61-AD400407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93B-84EE-4850-8FC8-88949A86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137-64D6-47A9-9FE2-DDDC54F7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5CF-83F2-468C-BE3B-5240352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20C-098B-4806-AC1A-BE687A04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28F-80C8-4BCD-BA1B-4C050DEA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BDEC-A49D-4982-8CCA-7E7BE82C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i geome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unghi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565360"/>
            <a:ext cx="2305080" cy="19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5640" y="1773360"/>
            <a:ext cx="1943280" cy="2808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1341360"/>
            <a:ext cx="2305080" cy="323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9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013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ptung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0000" y="501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s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rulat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figuri geome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9:38:14Z</dcterms:created>
  <dc:creator>AS</dc:creator>
  <dc:description/>
  <dc:language>en-US</dc:language>
  <cp:lastModifiedBy>AS</cp:lastModifiedBy>
  <dcterms:modified xsi:type="dcterms:W3CDTF">2010-01-07T19:52:27Z</dcterms:modified>
  <cp:revision>2</cp:revision>
  <dc:subject/>
  <dc:title>Figuri geometrice</dc:title>
</cp:coreProperties>
</file>